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70E-D9AD-4047-9163-2C65463D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ED8-B311-4226-AD19-6BC8C3DF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A8B-D81F-4E5D-BDF1-765DE080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657-950D-4059-8E28-A7B915B8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311E-0366-4BE5-B17D-76228BAF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8A655-21F2-4EA3-8EE2-90AEE4FE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92419-0C44-4454-9C23-3F310B5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82220-C182-4949-A8C9-3570ECA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CA473-DC54-4396-A92A-DD4F8565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E0D22-44DD-4FDB-A0FD-E983F399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3B2AD-1E45-4D94-B23D-44B381B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C37-25F4-4D47-896C-24C2F3F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AF513-B365-4D3B-9E7D-56F24FEA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16804-1089-4FBC-9D66-CF696A1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AEED6-F7BC-44A6-8376-AF0E56A1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4DF77-B303-449C-A6C6-7905C42A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B2ECE-7100-4904-A191-DD61425A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716-F85A-4834-9F54-5DA0ECE6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376-4C2E-441E-9179-78860D1A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296-ED33-4361-A29A-C1AB40CF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503-020B-43A8-AC1C-EC90DA62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5F9-5FC2-4E97-BD60-7DBEDA2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1F9-B624-4C56-8778-45DEDFED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11D-F9DD-433F-ABE1-6201405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B3E1-DCB1-4432-8BB2-7856F8C76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808-C9CE-4460-B72A-A783068A1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Safety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181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for warning sire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out of the ocean as fast as you c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news or rad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in school you need to go with a tea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higher floor or higher 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unami’s can occur at day and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658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rps.psu.edu/probing/tsunami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Sir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553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connect.in.com/tsunami-warning/images-tsunami-warning-system--1-257804088463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2:41Z</dcterms:created>
  <dc:creator>D83  User</dc:creator>
  <dc:description/>
  <dc:language>en-US</dc:language>
  <cp:lastModifiedBy>D83  User</cp:lastModifiedBy>
  <dcterms:modified xsi:type="dcterms:W3CDTF">2010-10-25T15:17:51Z</dcterms:modified>
  <cp:revision>7</cp:revision>
  <dc:subject/>
  <dc:title>PowerPoint Presentation</dc:title>
</cp:coreProperties>
</file>